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174-5B5D-469D-9213-78777AEF2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01F5-E0AE-47F5-BAA7-999F6743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3B4-E749-4554-BCF3-D3353E7C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F06-9DA5-4AFC-A646-F7E4E56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0FF-23D5-4C2B-8AA8-C99AA314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DD5-722A-43E7-8091-23B19585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0D6-C8AA-4216-8817-1FF29C1C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F96-CAFB-4759-AEF4-A99A7E77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6DE-306D-4BE6-869E-627D3DC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830-A0DB-4E20-A030-B300317A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258-C052-447D-8D62-1D8FC308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3C2-E948-430B-AF56-740893A6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089-95CD-41D4-82DE-5AE19A3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2A3-531E-47CA-9AF9-466BF99B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D107-D3EC-46BC-9E35-5625E74E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hahmina Ham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hahmina Ham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hahmina Hami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hahmina Ham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447920" y="1752480"/>
            <a:ext cx="563868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343434"/>
                </a:solidFill>
                <a:latin typeface="Arial"/>
              </a:rPr>
              <a:t>Buenos días mis amigas.  Que haces¿ Donde estas¿  Como e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2700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429000"/>
            <a:ext cx="1752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llamo Rhahmina. Vivo en NY. Yo tengo catorce años.  Yo soy simpática, bonita y divertida. Yo tengo tres  hermanos, son fastidiosos.  Tenemos dos pájaros inteligente. Adiós amigas!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60480" y="4876920"/>
            <a:ext cx="56808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743040" y="4876920"/>
            <a:ext cx="54288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4100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7117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950000"/>
            <a:ext cx="439560" cy="633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Usted es simpática. Ustedes son mis amiga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0040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as, Rhahmina!  Te amo amigo.   Yo estoy en la ciuda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 tiene una fiesta mañana. ¿Tu quieres venir  a la fiesta? Nuest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fiesta será divertida.  _x0016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Rhahmina!  Espero el bus.  Estoy aburri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us fiestas son locas. ¿Tu vas?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mos en Queens con nuestras amigas. Ellos están sorprendido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7150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0958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105680" y="4829040"/>
            <a:ext cx="1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6:10Z</dcterms:modified>
  <cp:revision>116</cp:revision>
  <dc:subject/>
  <dc:title>Profile</dc:title>
</cp:coreProperties>
</file>